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A7B-D73F-4DEC-B499-8499FE48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D67-B1CF-4243-81AB-B42383A3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E04-419A-4DD3-B0F0-BB8E522D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09F-15ED-408C-B18F-D1445693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F0B-1A8F-4923-ACA1-0665063B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AC4-7FBF-4AF6-A10D-A6AC1142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78C-61DD-4CF2-B2BB-01EFA4CC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C59-0622-4789-99DC-778C65E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628-3AD2-4C30-AB0A-A3A2ADA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193-8D1F-40A0-B8E5-93B7A13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EDF-EDDC-4929-A9BD-B6D0790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9CF-9879-44C7-A681-ABE8F42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9904-F9C0-4BAD-B571-BB999EC8CF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alleycat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838080"/>
            <a:ext cx="36576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Arial"/>
              </a:rPr>
              <a:t>Humane Management of Feral Cats</a:t>
            </a: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a presentation to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--insert name-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b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Alley Cat All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April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8320" y="762120"/>
            <a:ext cx="4095720" cy="53784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36904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5867280" y="3124080"/>
            <a:ext cx="304812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49"/>
              </a:spcAft>
              <a:buClr>
                <a:srgbClr val="ff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events the spread of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liminates yowling, fighting, spra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219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Arial"/>
              </a:rPr>
              <a:t>Benefits of Trap-Neuter-Return</a:t>
            </a: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74880"/>
            <a:ext cx="33526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49"/>
              </a:spcAft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aves and improves the lives of ca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ops the bree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000" t="0" r="2000" b="5072"/>
          <a:stretch/>
        </p:blipFill>
        <p:spPr>
          <a:xfrm>
            <a:off x="457200" y="1066680"/>
            <a:ext cx="8229600" cy="540864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80880" y="1143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Arial"/>
              </a:rPr>
              <a:t>Benefits of Trap-Neuter-Return</a:t>
            </a: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905120"/>
            <a:ext cx="419076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49"/>
              </a:spcAft>
              <a:buClr>
                <a:srgbClr val="ffff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Keeps rodents at b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st effective as it prevents new animals from moving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3429000"/>
            <a:ext cx="297180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49"/>
              </a:spcAft>
              <a:buClr>
                <a:srgbClr val="ff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events accidental removal of someone’s p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upported by animal l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676520"/>
            <a:ext cx="297180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7.5 million Americans feed feral ca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arris Poll: 81% of people opposed to  killing ca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5582" t="26003" r="21581" b="14003"/>
          <a:stretch/>
        </p:blipFill>
        <p:spPr>
          <a:xfrm>
            <a:off x="4038480" y="1828800"/>
            <a:ext cx="4496040" cy="382896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433520"/>
            <a:ext cx="32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NR is endorsed by the ASPCA, the American Animal Hospital Association, the  MSPCA, and many other organ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9335" t="9999" r="17334" b="18000"/>
          <a:stretch/>
        </p:blipFill>
        <p:spPr>
          <a:xfrm>
            <a:off x="4267080" y="914400"/>
            <a:ext cx="4191120" cy="54864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05120"/>
            <a:ext cx="426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NR works in cities and towns across the country from San Diego, California, to many communities right here in Massachuset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15156" r="0" b="0"/>
          <a:stretch/>
        </p:blipFill>
        <p:spPr>
          <a:xfrm>
            <a:off x="4952880" y="1600200"/>
            <a:ext cx="3340080" cy="426708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907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Arial"/>
              </a:rPr>
              <a:t>Here's how it work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339" r="0" b="0"/>
          <a:stretch/>
        </p:blipFill>
        <p:spPr>
          <a:xfrm>
            <a:off x="876240" y="1752480"/>
            <a:ext cx="7391520" cy="46944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066680" y="5791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ach cat is trapped in a humane trap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9907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Arial"/>
              </a:rPr>
              <a:t>Here's how it work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51460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local veterinarian  examines the cats, neuters, vaccinates, and eartips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21265" t="13112" r="24703" b="0"/>
          <a:stretch/>
        </p:blipFill>
        <p:spPr>
          <a:xfrm>
            <a:off x="4572000" y="1676520"/>
            <a:ext cx="3890880" cy="46926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9907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Arial"/>
              </a:rPr>
              <a:t>Here's how it work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1875" t="0" r="15626" b="49419"/>
          <a:stretch/>
        </p:blipFill>
        <p:spPr>
          <a:xfrm>
            <a:off x="1504800" y="1752480"/>
            <a:ext cx="6134400" cy="463068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1600200" y="1828800"/>
            <a:ext cx="243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You can identify  a neutered feral cat by their eartip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9907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Arial"/>
              </a:rPr>
              <a:t>Here's how it work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733920"/>
            <a:ext cx="243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eral cats are released where they were trapp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0020" t="0" r="5689" b="18924"/>
          <a:stretch/>
        </p:blipFill>
        <p:spPr>
          <a:xfrm>
            <a:off x="685800" y="1752480"/>
            <a:ext cx="2514600" cy="36576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2041" r="0" b="4081"/>
          <a:stretch/>
        </p:blipFill>
        <p:spPr>
          <a:xfrm>
            <a:off x="6248520" y="2895480"/>
            <a:ext cx="2482560" cy="350532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429000" y="16765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ame cats are placed in adoptive hom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9907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Arial"/>
              </a:rPr>
              <a:t>Here's how it work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905120"/>
            <a:ext cx="236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cats are fed and monitored daily by volunte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022720" cy="368136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12000" t="27339" r="18000" b="0"/>
          <a:stretch/>
        </p:blipFill>
        <p:spPr>
          <a:xfrm>
            <a:off x="2876400" y="3886200"/>
            <a:ext cx="3391200" cy="263988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0115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91440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ver 40 million feral cats nationwid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Arial"/>
              </a:rPr>
              <a:t>Here's how it work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86000"/>
            <a:ext cx="4419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–insert your group’s name -- would oversee the program and provide spay/neuter and vaccinations for the ca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506" t="16220" r="0" b="3991"/>
          <a:stretch/>
        </p:blipFill>
        <p:spPr>
          <a:xfrm>
            <a:off x="5029200" y="1752480"/>
            <a:ext cx="3519360" cy="45720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3784680"/>
            <a:ext cx="3353040" cy="222876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3359160" cy="223344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685800" y="2849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pa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0200" y="541008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Kin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rcRect l="20041" t="0" r="0" b="22836"/>
          <a:stretch/>
        </p:blipFill>
        <p:spPr>
          <a:xfrm>
            <a:off x="4572000" y="1143000"/>
            <a:ext cx="3952800" cy="508644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095880" y="10666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munity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2315" t="0" r="13876" b="0"/>
          <a:stretch/>
        </p:blipFill>
        <p:spPr>
          <a:xfrm>
            <a:off x="990720" y="1222200"/>
            <a:ext cx="2117520" cy="2206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1828800"/>
            <a:ext cx="441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ank you to the photographers for their contribution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olly Wald, Troy Snow, Valerie Schumach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lie Linford, Duane Wilcox, Jana de Peyer, Jim Dav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nd Lifeline Animal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 more information visit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alleycat.org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11108" r="0" b="20836"/>
          <a:stretch/>
        </p:blipFill>
        <p:spPr>
          <a:xfrm>
            <a:off x="762120" y="2514600"/>
            <a:ext cx="4449600" cy="373392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914400" y="10666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here do they come from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16661" r="0" b="21837"/>
          <a:stretch/>
        </p:blipFill>
        <p:spPr>
          <a:xfrm>
            <a:off x="4800600" y="1066680"/>
            <a:ext cx="3954600" cy="36576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7063" t="27205" r="33915" b="0"/>
          <a:stretch/>
        </p:blipFill>
        <p:spPr>
          <a:xfrm>
            <a:off x="3581280" y="1295280"/>
            <a:ext cx="4876920" cy="481644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609480" y="1905120"/>
            <a:ext cx="2667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nneutered cats can exhibit annoying behaviors associated with m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01000" cy="531468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683280" y="1066680"/>
            <a:ext cx="74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re 3 ways to deal with feral cat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7242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gnor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ry to exterminate the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umanely control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77320" cy="53704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762120" y="12193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gnoring the cats is not a humane solution for cats o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67652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second most common approach is extermin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ts are trapped and killed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1181160"/>
            <a:ext cx="3371760" cy="449568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521172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809880" y="52578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hen cats are removed new animals move i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1400" y="1371600"/>
            <a:ext cx="36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vacuum eff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9536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lley Cat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219320"/>
            <a:ext cx="342900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ying to get rid of the cats has not work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problem has continued to gro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early it’s time for a different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3701" t="1852" r="3701" b="2001"/>
          <a:stretch/>
        </p:blipFill>
        <p:spPr>
          <a:xfrm>
            <a:off x="4419720" y="1447920"/>
            <a:ext cx="4176720" cy="43434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01:02:28Z</dcterms:created>
  <dc:creator>Bonney Brown</dc:creator>
  <dc:description/>
  <dc:language>en-US</dc:language>
  <cp:lastModifiedBy>Bonney</cp:lastModifiedBy>
  <dcterms:modified xsi:type="dcterms:W3CDTF">2010-06-16T00:22:18Z</dcterms:modified>
  <cp:revision>37</cp:revision>
  <dc:subject/>
  <dc:title>Slide 1</dc:title>
</cp:coreProperties>
</file>